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93E9-215B-4C79-BB4E-42AA0AE6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827-0AC8-4F6F-AA3F-FC7D442A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5A7-B071-4F97-9855-7636D53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3F3-99FC-421F-8ED1-EB418F7A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2F0-D973-4DAF-A043-73B9B96F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F686-D1BD-4063-B3D0-C54EE84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24A-1328-4618-BCF0-29F28FB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157-463F-49CA-8190-44D6DA37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F521-34AA-458D-9EEA-019C7A6B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B50C-547A-476A-9CF9-EFB4968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B2F-66A8-4314-B336-FBA8FF17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422-8DBF-4459-9C5B-B1FA46F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177-FFC8-45B8-85E6-EA7513F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533F-6169-4C45-A60C-203D90B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58F-1CD1-4E6B-A400-56427EF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3C6-A4E2-404A-AD00-1B24724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A05E-03D5-414C-B841-799AFAF2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1F2-935A-41FE-8D1E-2B2482E8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939-887A-45CC-9380-81CD929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7A1-F49B-4CB6-AAED-37EB89D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661-2229-4E4B-BC14-7CDA1EE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854-8BB7-430E-AA01-DF62CF2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FCE-A701-4769-A390-81382A5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4AD-359B-47B9-A8D3-BD0E1EB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B90-4DAF-4773-B7AA-3C476ED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AAE7-7594-44AD-931B-79518776F7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784-8890-47AF-81AE-0411A0F362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Tyler, Chris, H2O, and S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fa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vented the telephone on March 10, 1876 (He was 29 at the ti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born o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March, 18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was born in Edinburgh, Sco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duated from high school when he was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tele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Bell’s telephone looks l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2525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57680" y="1380960"/>
            <a:ext cx="3429000" cy="4096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son’s pho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pho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9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 tried to save Abraham Lincoln’s lif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tried to save President James Garfield’s life by finding a bullet with his metal det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ried once, but the metal detector wouldn’t stop bee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ried in the morning but they never knew what was wr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nally found out what was wrong, but it was too late ( he was laying on a metal spring b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b651"/>
            </a:gs>
            <a:gs pos="100000">
              <a:srgbClr val="46aa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fa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’s father was d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ather’s name is Alexander Melville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4646"/>
            </a:gs>
            <a:gs pos="100000">
              <a:srgbClr val="f491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some of the resources we used in this 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esource we used is www.as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resource is library book abou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are some of the resources we used on this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31:37Z</dcterms:created>
  <dc:creator>Montour School District</dc:creator>
  <dc:description/>
  <dc:language>en-US</dc:language>
  <cp:lastModifiedBy>Montour School District</cp:lastModifiedBy>
  <dcterms:modified xsi:type="dcterms:W3CDTF">2008-05-22T13:58:34Z</dcterms:modified>
  <cp:revision>12</cp:revision>
  <dc:subject/>
  <dc:title>Alexander Graham Bell</dc:title>
</cp:coreProperties>
</file>